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5E23-46E3-42EA-87AF-449BE4DE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68DE-34EB-4E7D-9BB0-36CB0E23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D8B4-7800-42A7-9933-0C40CAD6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7A0E-C0B8-4E0A-A0D8-232CCAD4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0B998-C826-41F5-B4B5-F042EA1E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2F888-AB13-48DC-9F94-4CCD8FB9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EE199-9B23-42D6-B301-EAA0E43D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6103A-BB3F-4E64-B3C9-8947B825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E026D-DDE4-4CD8-AB94-C59CC19D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FFE50-2281-465A-B0CC-D45FE0B0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11337-DAF8-4E9A-8D43-96073C89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B8C3-FDEA-4083-9832-1E1B89B3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0E62D-0CE9-4C3E-B94E-0149E3B6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BA028-970E-4219-A165-8841D83E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AEF05-A3AD-4643-87B0-73A5E908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9E2B0-2F66-41C6-AE91-E914CB6E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1B6A3-836C-415C-8A63-D5115A70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CA0DE-8805-4598-8B97-97EE2B95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17847-C78C-471C-BC32-D8CAD598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D603F-477F-47CF-BA94-0FDA6C69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1F641-4246-4A8C-B5BB-B2B32237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405B2-21DB-4F3A-8277-B6D3D711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3CF5-EE11-42ED-813A-99B289F3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BB6C2-D4BF-40D5-B4E9-5A1CF96D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BBC5A-3B19-4C7C-B941-A5E2D26E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E8FC5-5E06-460D-8FD3-70B8B22A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6FD80-73A1-4F08-9204-1AC0DDA7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C9C7C-153A-418F-8A7D-3B777F39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74252-6D44-4428-925C-3620B888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1ADBB-1B02-4E02-801B-368866BBF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22F3-4933-4777-8F7F-13363BEA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BF45-1A77-4CDC-A5AE-7E95E8F2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C14D-ACBF-429B-97F6-672AFF54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B05B-E6FB-4534-BC57-587E3131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2B11-4AE0-4A5E-A0FE-640AF136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67A3-0014-4E72-970B-8E03C46D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2833-927E-4D70-B9B3-92E41BDC1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5777-A478-42E2-BC3A-0EC904A7F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37EF-156F-456A-AD47-7A2E319D7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5909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ff"/>
                </a:solidFill>
                <a:latin typeface="Bradley Hand IT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99"/>
                </a:solidFill>
                <a:latin typeface="Tahoma"/>
              </a:rPr>
              <a:t>By: Nicole Hill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52520" y="2265480"/>
            <a:ext cx="4638960" cy="23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e vacaciones a la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ominican Republic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Querida Amand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Yo llege a la hotel. Es muy bonita y grande. La playa preciosa. La piscina es muy grande. En el mar hay olas grandes. Hace cal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 todo mi carin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ic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876920" y="1143000"/>
            <a:ext cx="3622680" cy="2413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00600" y="3695760"/>
            <a:ext cx="3686040" cy="2760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3124080" y="457200"/>
            <a:ext cx="2076480" cy="495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i Hot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99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Querido El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La playa es muy grande, y bonita. La arena es suave. Hoy tomamos el sol. Nosotros esqui aquatica en el mar. fuimos el surfing. Nosotros usamos crema protectora. Las olas son muy gran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Con todo mi carin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Nic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581280" y="0"/>
            <a:ext cx="1638360" cy="15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unes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99ff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rida Fay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y hace mal tiempo, y lleve. No fui a la playa. Fuimos a una pista de tenis cubierta. Un jugador gol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la pelota. La pelota pas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or encima de la red. Jugaron si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todo mi carino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648320" y="1600200"/>
            <a:ext cx="4038480" cy="4525920"/>
            <a:chOff x="4648320" y="1600200"/>
            <a:chExt cx="4038480" cy="452592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 txBox="1"/>
            <p:nvPr/>
          </p:nvSpPr>
          <p:spPr>
            <a:xfrm>
              <a:off x="4648320" y="160020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 txBox="1"/>
          <p:nvPr/>
        </p:nvSpPr>
        <p:spPr>
          <a:xfrm>
            <a:off x="3657600" y="380880"/>
            <a:ext cx="1895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art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wipe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98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0099cc"/>
            </a:gs>
            <a:gs pos="100000">
              <a:srgbClr val="ff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ida madd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y mis hermanas y yo fuimos a la tienda de ropa. Compramos nuevo traje de baño. Desp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fuimos a nadar en la piscina. Me gusta ir de compras. Una dia muy buena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todo mi carin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60948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ff"/>
                </a:solidFill>
                <a:latin typeface="Verdana"/>
              </a:rPr>
              <a:t>Miercol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3520" y="1695600"/>
            <a:ext cx="3809880" cy="40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Querida mi abuel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Hoy fuimos a cenar, a un restaurante. Fui a Con mi familia. Un restaurant es muy elegante. Mi com</a:t>
            </a:r>
            <a:r>
              <a:rPr b="0" lang="en-US" sz="3200" spc="-1" strike="noStrike">
                <a:solidFill>
                  <a:srgbClr val="ff99ff"/>
                </a:solidFill>
                <a:latin typeface="Arial"/>
                <a:ea typeface="Arial"/>
              </a:rPr>
              <a:t>í</a:t>
            </a: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 un jamon. Es muy delicioso. Despu</a:t>
            </a:r>
            <a:r>
              <a:rPr b="0" lang="en-US" sz="3200" spc="-1" strike="noStrike">
                <a:solidFill>
                  <a:srgbClr val="ff99ff"/>
                </a:solidFill>
                <a:latin typeface="Arial"/>
                <a:ea typeface="Arial"/>
              </a:rPr>
              <a:t>è</a:t>
            </a: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s de come helado. Tengo un helado chocolate. Me gusta un helado chocol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Con todo mi carin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Nic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05320" y="457200"/>
            <a:ext cx="21715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ueves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Querido mi abuel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Hoy fui a la piscina cerca de hotel. Hace color. El sol brilla en el cielo. El buceo con mis hermanas. Me puse mi traje de baño. El agua est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á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caliente. Tomar el sol con mi hermana. Usar crema protecto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on todo mi carin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Nic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6933960" cy="2152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3886200" y="533520"/>
            <a:ext cx="17240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vierne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>
    <p:split dir="in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29:51Z</dcterms:created>
  <dc:creator>hillnic</dc:creator>
  <dc:description/>
  <dc:language>en-US</dc:language>
  <cp:lastModifiedBy>hillnic</cp:lastModifiedBy>
  <dcterms:modified xsi:type="dcterms:W3CDTF">2011-11-30T17:02:51Z</dcterms:modified>
  <cp:revision>13</cp:revision>
  <dc:subject/>
  <dc:title> Me vacaDominican Republic </dc:title>
</cp:coreProperties>
</file>